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85A-9C3C-443B-BFD5-B79537CC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9AB-ABA5-482C-8752-5183E5DD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3BE-2A0A-4E48-8E05-9962CCEA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DA5-E17D-4C4F-89A9-C28E199E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4C2C-10B2-4E0D-BFB9-A736B17C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70D9-0442-49C1-BEFF-ACC3BAA6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CF6B-9801-42FD-9CA3-C7C13111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BF87-B816-479E-B9D0-BA93D93C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C9FF-9575-4DD0-B1EE-6925F674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2EC5-C53F-4089-9C52-0FBD7B3A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E857-94F3-4038-B149-9AD98DF3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57A-999D-46DA-9607-4047E944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47BE-A737-4664-8162-21D20C7A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4F4A-2712-45B2-924E-83661462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793A-68F6-4583-9EB0-A7B3D977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CE39-73AC-46D5-ADBC-063A65E3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8832-8367-43E0-9A4D-D34D3557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0BB7-ED54-445C-A354-77A985E9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FD48-DD1D-4BFA-BCC4-6CADB715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A877-49F2-4B29-B6DA-222CCA1C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EBE-0CD9-41AF-9B72-765330F7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A01-591A-419B-9141-CE0AF844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2E6-B900-4527-8224-BA9083EA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F40E-47E4-4AD3-8C3D-757591AE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C6BA-8D52-4E17-B8F9-926926046C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1DAD-ACC9-4AB9-9C9F-B139A97FD0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yrene.org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Fox new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52480" y="1905120"/>
            <a:ext cx="5079960" cy="40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By: Cody ,Lucas, and Jos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464832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Volcano Erupt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cano erupts in Hawaii does 2.5 thousand in da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30480" y="1981080"/>
            <a:ext cx="27190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 causes volcano to erupt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6800" y="1981080"/>
            <a:ext cx="76089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Effects of volcano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dsl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thqua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v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lan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lling a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80844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afety Tip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y distance from volcano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touch the 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4343400" cy="3124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09680" y="52578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00-679-72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05320" y="0"/>
            <a:ext cx="172692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lav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repell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8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2819520" cy="609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Resources 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fema.g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news.bbc.co.u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kidskonnec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volcano.und.nodak.edu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www.kyre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binmaxe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ggestsof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4:26:17Z</dcterms:created>
  <dc:creator>D83  User</dc:creator>
  <dc:description/>
  <dc:language>en-US</dc:language>
  <cp:lastModifiedBy>D83  User</cp:lastModifiedBy>
  <dcterms:modified xsi:type="dcterms:W3CDTF">2011-03-23T19:19:52Z</dcterms:modified>
  <cp:revision>13</cp:revision>
  <dc:subject/>
  <dc:title>PowerPoint Presentation</dc:title>
</cp:coreProperties>
</file>